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647-F13F-4602-A50B-884CF860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6A5-8620-4BD8-BB53-AC875E1D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A42-ADB7-41BB-A2CF-44707574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4D1-7427-4B24-902F-17862D34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6A6A-B15D-48FF-9F59-BDE26223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CF25-4089-4960-9B35-7833AD65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35AF-3F30-4536-8B7F-D49ADD82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E8FE-DF50-48AC-A8D9-ED80FDBF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DF66-0339-46DD-A42D-BF8D031D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2A40-A2B6-49CD-896D-A144D2D5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DFA9-A8B7-48C6-89CB-3FA4E41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502-CEE1-49A9-AC4B-7A0863DA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03B9-5739-4471-8654-29DCE360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7E7F-C4C0-43C1-A900-1B3D066D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3523-66A8-481A-AD29-4778FCEE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4E7E-6030-4759-877F-C4037D69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401B-6F18-4D81-BD5E-6D11F50A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9D5-9B3A-4CBD-9AD2-95B20FF1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2F4-3229-4609-9DE7-49889D99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DDB-882C-4502-AAC5-E1CCB5C1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93F-5188-400B-8909-F8931EBB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353-4EA3-430E-BD5E-05FFEE5E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F29-EA10-4AF7-976B-69C7F516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D42-D563-427C-BAA8-AE140CA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4F3E-4EC2-456A-A382-2CA9B1448A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D4F-7287-45E4-84C8-3405159F5F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883908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</a:t>
            </a:r>
            <a:r>
              <a:rPr b="0" lang="sr-Latn-C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ti pojmovi o građi </a:t>
            </a:r>
            <a:br>
              <a:rPr sz="4300"/>
            </a:br>
            <a:r>
              <a:rPr b="0" lang="sr-Latn-C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4300"/>
            </a:br>
            <a:r>
              <a:rPr b="0" lang="sr-Latn-C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kcionisanju </a:t>
            </a:r>
            <a:br>
              <a:rPr sz="4300"/>
            </a:br>
            <a:r>
              <a:rPr b="0" lang="sr-Latn-C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nog sistem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an Aleksi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SmartArt Placeholder 8198"/>
          <p:cNvGrpSpPr/>
          <p:nvPr/>
        </p:nvGrpSpPr>
        <p:grpSpPr>
          <a:xfrm>
            <a:off x="0" y="838080"/>
            <a:ext cx="9143280" cy="5789520"/>
            <a:chOff x="0" y="838080"/>
            <a:chExt cx="9143280" cy="5789520"/>
          </a:xfrm>
        </p:grpSpPr>
        <p:cxnSp>
          <p:nvCxnSpPr>
            <p:cNvPr id="115" name="_s4100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2240" y="2132280"/>
              <a:ext cx="1158480" cy="320076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4101"/>
            <p:cNvCxnSpPr>
              <a:stCxn id="119" idx="0"/>
              <a:endCxn id="117" idx="2"/>
            </p:cNvCxnSpPr>
            <p:nvPr/>
          </p:nvCxnSpPr>
          <p:spPr>
            <a:xfrm flipV="1">
              <a:off x="4571280" y="3153600"/>
              <a:ext cx="3240" cy="115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4102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391840" y="2132280"/>
              <a:ext cx="1158480" cy="320076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7" name="_s4103"/>
            <p:cNvSpPr/>
            <p:nvPr/>
          </p:nvSpPr>
          <p:spPr>
            <a:xfrm>
              <a:off x="3200040" y="838080"/>
              <a:ext cx="2742840" cy="2315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Nervni 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sistem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4104"/>
            <p:cNvSpPr/>
            <p:nvPr/>
          </p:nvSpPr>
          <p:spPr>
            <a:xfrm>
              <a:off x="0" y="4311720"/>
              <a:ext cx="2742840" cy="2315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Centralni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_s4105"/>
            <p:cNvSpPr/>
            <p:nvPr/>
          </p:nvSpPr>
          <p:spPr>
            <a:xfrm>
              <a:off x="3200040" y="4311720"/>
              <a:ext cx="2742840" cy="2315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Periferni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4106"/>
            <p:cNvSpPr/>
            <p:nvPr/>
          </p:nvSpPr>
          <p:spPr>
            <a:xfrm>
              <a:off x="6400440" y="4311720"/>
              <a:ext cx="2742840" cy="2315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Autonomni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za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mena možd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za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i moza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dano stab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i moza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čmena možd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i moza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ve hemisf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inantn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rtek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kortikalna bela ma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kortikalna siva ma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bički si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ra mozg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va ma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a površ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5mm do 5m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slojev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2 polja po Brodmann-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 i analizira informaci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odi ih u vezu sa ranijim iskustvi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eira odgovo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kortikalna bela mas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kciona vlakna – putevi (piramidn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isuralna vlakna (corpus callosu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ocijativna vlakna (u istoj hemisfer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kortikalna siva mas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 ekstrapiramidnog siste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azalne gangli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alam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ipotalam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bički siste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iji deo mozg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jalni i bazalni delovi hemisf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ašan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ceralni moza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dano stabl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encefal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žena možd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dano stabl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i za: - Disan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rčani rad i krvoto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gulaciju budnosti i spavan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utanj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vraćanj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ra kranijalnih nerav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 lezije klinički značaj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9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Uvod u neurologiju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i pojmovi o građi i funkcionisanju nervnog sistema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ški simptomi i znaci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homotorni razvoj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razvoja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 i razvojna regresija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mlitavog deteta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oduzetos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kularna formac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 moždanog stabl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mulacija- buđen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zija- ko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cija budnosti i spavan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i moza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hicerebelu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 vezi sa vestibularnim sistemom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džavanje ravnotež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ocerebel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ima impulse iz mišića i tetiva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kontrola tonusa mišića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cerebelu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ima impulse iz ko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koordiniše pokre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čmena moždi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kičmenom kanal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vrlo malom prostoru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vi motorni izlazni put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vi senzitivni ulazni put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ni 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getativ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novna jedinica građe 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 razlikuje se bitno od najnižih živih bica koji imaju 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o neuro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lazma membra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ćelijske organe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tavc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ndriti – impulsi ka telu neuro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eurit (akson) - impulsi od tela neuro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ugi i veše od 1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eliki broj završetaka na kraj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aps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to kontakta dva neuro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aptička pukotina 300 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an neuron – više transmite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kscitator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hibitor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naptički receptor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inaptički receptor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rmakološka blokad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ijalno tk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porna uloga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neuron – 9 glijalnih ćel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strocit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oligodendrocit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ne ćelij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6 milijard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ovane u ogroman broj siste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li za proste reflek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loženi za složene aktivnost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cija ovih sistema je urođe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gućnost razvijanja novih sistema (talent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SmartArt Placeholder 22534"/>
          <p:cNvGrpSpPr/>
          <p:nvPr/>
        </p:nvGrpSpPr>
        <p:grpSpPr>
          <a:xfrm>
            <a:off x="465120" y="1066680"/>
            <a:ext cx="8228520" cy="5637600"/>
            <a:chOff x="465120" y="1066680"/>
            <a:chExt cx="8228520" cy="5637600"/>
          </a:xfrm>
        </p:grpSpPr>
        <p:cxnSp>
          <p:nvCxnSpPr>
            <p:cNvPr id="86" name="_s1028"/>
            <p:cNvCxnSpPr>
              <a:stCxn id="87" idx="0"/>
              <a:endCxn id="88" idx="2"/>
            </p:cNvCxnSpPr>
            <p:nvPr/>
          </p:nvCxnSpPr>
          <p:spPr>
            <a:xfrm flipV="1" rot="16200000">
              <a:off x="5123160" y="2777760"/>
              <a:ext cx="1127880" cy="2215440"/>
            </a:xfrm>
            <a:prstGeom prst="bentConnector3">
              <a:avLst>
                <a:gd name="adj1" fmla="val 101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29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2907360" y="2777760"/>
              <a:ext cx="1127880" cy="2216160"/>
            </a:xfrm>
            <a:prstGeom prst="bentConnector3">
              <a:avLst>
                <a:gd name="adj1" fmla="val 101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" name="_s1030"/>
            <p:cNvSpPr/>
            <p:nvPr/>
          </p:nvSpPr>
          <p:spPr>
            <a:xfrm>
              <a:off x="2680920" y="1066680"/>
              <a:ext cx="3797640" cy="22550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Medicin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1031"/>
            <p:cNvSpPr/>
            <p:nvPr/>
          </p:nvSpPr>
          <p:spPr>
            <a:xfrm>
              <a:off x="465120" y="4449240"/>
              <a:ext cx="3797640" cy="22550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Interna 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medicin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_s1032"/>
            <p:cNvSpPr/>
            <p:nvPr/>
          </p:nvSpPr>
          <p:spPr>
            <a:xfrm>
              <a:off x="4896000" y="4449240"/>
              <a:ext cx="3797640" cy="22550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Hirurgij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ma organizacije nervnog sistem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Čula i senzitivni sistem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laz informacija iz spoljašnjeg svet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obrada informacija i kreiranje odgovora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erentni sistemi - efektor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akcij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štećenja na bilo kom nivo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nička neurološka dijagnostika - funkcionalna dijagnostik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tičnost mozg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sobnost mozga da se menja strukturno u odgovoru na stimul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sperimenti na životinja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askulogeneza (angiogenez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naptogene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eurogene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tom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ni simptom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zitivni simptom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homotorni razvoj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razvoja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 i razvojna regresija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mlitavog deteta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homotorni razvoj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novni principi razvo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je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ntinuiran proces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ji počinje začećem i čije je odvijanje omoguđeno sazrevanjem nervnog siste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tape razvoja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te</a:t>
            </a:r>
            <a:r>
              <a:rPr b="0" lang="sr-Latn-C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sve dece ali je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tam</a:t>
            </a:r>
            <a:r>
              <a:rPr b="0" lang="sr-Latn-C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jihovog ispoljavanja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dividuala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razlikuje se od deteta do de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azvoj motornih sposobnosti se odvija od nediferencirane i masovne aktivnosti ka specifičnim reakcija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azvoj se odvija </a:t>
            </a:r>
            <a:r>
              <a:rPr b="0" lang="sr-Latn-C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u kraniokaudalnom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meru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uspostavljanje kontrole glave i upotreba šaka prethodi samostalnom hodu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imarne (automatske) reakcije moraju nestati (refleks hvatanja, automatski hod), da bi u određenoj etapi razvoja došlo do sticanja novih, razvijenih motornih obraza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an razvoj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poren razvoj – sporije usvajanje pojedinih funkcija  “razvojni miljokazi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na regresija – gubitak ranije postojećih funkc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motornih sposobnost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vesna kontrola držanja glave prisutna na rođenju – nervi koji inervišu ekstenzore glave najranije se mijelinizu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ski hod – prisutan na rođenju, slabi i nestaje tokom prvih nekoliko nedelja živo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manipulativnih sposobnost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no refleksno hvatanje preovlađuje prvih 8-12 nedelja živo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 4 nedelje života šake su zatvorene da bi se sve više otvarale i palac odmicao od dla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 4. meseca – voljno hvatanje ponuđene igračk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 6 meseci dete aktivno poseže za predmet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o 10 meseci počinje da hvata predmete vrhom kažiprsta i vrhom palca “pincetni hva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razvoj manipulativnih sposobnosti bolje ukazuje na nivo inteligencije nego razvoj grube motorik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ojava pincetnog hvata isključuje mentalni deficit sa velikom verovatnoć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čula vida i sluh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vor jake svetlosti – optički refleks trepta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vor jakog zvuka – akustički refleks trepta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orođeno dete reaguje na izvore zvuka menjanjem spontane motorike i mimike, Moroovim refleksom, plačem i treptanj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kacija izvora zvuka okretanjem glave sve bolja od 3. mese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martArt Placeholder 24582"/>
          <p:cNvGrpSpPr/>
          <p:nvPr/>
        </p:nvGrpSpPr>
        <p:grpSpPr>
          <a:xfrm>
            <a:off x="304920" y="380880"/>
            <a:ext cx="8838360" cy="6246720"/>
            <a:chOff x="304920" y="380880"/>
            <a:chExt cx="8838360" cy="624672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V="1" rot="16200000">
              <a:off x="5645880" y="1956960"/>
              <a:ext cx="1249920" cy="3094200"/>
            </a:xfrm>
            <a:prstGeom prst="bentConnector3">
              <a:avLst>
                <a:gd name="adj1" fmla="val 12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>
              <a:off x="4723920" y="2879280"/>
              <a:ext cx="3240" cy="1249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H="1" flipV="1" rot="5400000">
              <a:off x="2552040" y="1956960"/>
              <a:ext cx="1249920" cy="3094200"/>
            </a:xfrm>
            <a:prstGeom prst="bentConnector3">
              <a:avLst>
                <a:gd name="adj1" fmla="val 12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" name="_s2055"/>
            <p:cNvSpPr/>
            <p:nvPr/>
          </p:nvSpPr>
          <p:spPr>
            <a:xfrm>
              <a:off x="3398400" y="380880"/>
              <a:ext cx="2651400" cy="2498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Interna 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medicin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2056"/>
            <p:cNvSpPr/>
            <p:nvPr/>
          </p:nvSpPr>
          <p:spPr>
            <a:xfrm>
              <a:off x="304920" y="4128840"/>
              <a:ext cx="2651400" cy="2498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Neuropsihijatrij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57"/>
            <p:cNvSpPr/>
            <p:nvPr/>
          </p:nvSpPr>
          <p:spPr>
            <a:xfrm>
              <a:off x="3398400" y="4128840"/>
              <a:ext cx="2651400" cy="2498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terna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edicin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2058"/>
            <p:cNvSpPr/>
            <p:nvPr/>
          </p:nvSpPr>
          <p:spPr>
            <a:xfrm>
              <a:off x="6491880" y="4128840"/>
              <a:ext cx="2651400" cy="2498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fektivne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bolesti………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socijalnih kontakata i govor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unikacija mimikom lica značajna za kasniji psihosocijalni razvoj de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razvoj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motornog razvo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psihičkog razvo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roci usporenog razvoja – progresivna i neprogresivna oštećenja mozga u razvo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roci razvojne regresije – progresivne bolesti 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na regres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bitak motornih ili intelektualnih funkcija koje su ranije postojale kod de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ija kliničke slik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a nove neurološke simptomatolog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rok - Progresivne bolesti 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nedovoljnog razvoja mentalnih sposobnosti i poremećaja ponašanja koji ih p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encija – bogataš koji je osiromaš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 – siromah koji nikada nije bio bogat (nikada nije razvio svoje intelektualne kapacitet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o retardirane ili oligofrene os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boka retardacija – idiotija IQ 0-2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ška retardacija – imbecilitas IQ 20-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erena retardacija – debilitas IQ 50-7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ga retardacija IQ 70-9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ro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romozomski poremećaj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tičke mut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štećenja mozga tokom trudnoće, porođaja ili nakon njega (infekcije, asfiksij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ivne bolesti 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seudoretardacija – nedostatak stimulacije deteta može dovesti do zaostajanja u mentalnom razvo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mlitavog detet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je hipoton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stojanje neuobičajenih položaja tel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manjenje otpora tokom pasivnih pokr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eliki opseg mobilnosti u svim zglobovi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mlitavog detet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li je dete samo mlitavo uz očuvanu G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li je dete mlitavo uz pareze i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liz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ledati bolesti majke M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kalna mlitavost (pleksus brahijalis) ili generalizova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rogresivni poremećaj motornih funkcija, položaja i pokreta usled poremećaja i oštećenja struktura mozg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šteće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uterin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om porođa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rvim godinama život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kcije majk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rau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ngenitalne malform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erani porođaj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ernikter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sfiksija plo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stnatalna zapaljenja mozg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SmartArt Placeholder 26630"/>
          <p:cNvGrpSpPr/>
          <p:nvPr/>
        </p:nvGrpSpPr>
        <p:grpSpPr>
          <a:xfrm>
            <a:off x="1109520" y="286920"/>
            <a:ext cx="6924600" cy="4669560"/>
            <a:chOff x="1109520" y="286920"/>
            <a:chExt cx="6924600" cy="4669560"/>
          </a:xfrm>
        </p:grpSpPr>
        <p:sp>
          <p:nvSpPr>
            <p:cNvPr id="100" name="_s3076"/>
            <p:cNvSpPr/>
            <p:nvPr/>
          </p:nvSpPr>
          <p:spPr>
            <a:xfrm>
              <a:off x="3634920" y="1115280"/>
              <a:ext cx="1873440" cy="237132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3077"/>
            <p:cNvSpPr/>
            <p:nvPr/>
          </p:nvSpPr>
          <p:spPr>
            <a:xfrm>
              <a:off x="3634920" y="286920"/>
              <a:ext cx="187344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Neuropsihijatrij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3078"/>
            <p:cNvSpPr/>
            <p:nvPr/>
          </p:nvSpPr>
          <p:spPr>
            <a:xfrm>
              <a:off x="4250520" y="2468520"/>
              <a:ext cx="1873440" cy="23713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3079"/>
            <p:cNvSpPr/>
            <p:nvPr/>
          </p:nvSpPr>
          <p:spPr>
            <a:xfrm>
              <a:off x="6161040" y="4364640"/>
              <a:ext cx="187308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Neurologij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3080"/>
            <p:cNvSpPr/>
            <p:nvPr/>
          </p:nvSpPr>
          <p:spPr>
            <a:xfrm>
              <a:off x="3017880" y="2466360"/>
              <a:ext cx="1873080" cy="237132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3081"/>
            <p:cNvSpPr/>
            <p:nvPr/>
          </p:nvSpPr>
          <p:spPr>
            <a:xfrm>
              <a:off x="1109520" y="4364640"/>
              <a:ext cx="187308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Psihijatrij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kši obli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 poremećaj u finoj motornoj kontroli i oštećenja specifičnih kortikalnih funkcija – disfazije, disleksije, diskalkulije, dispraks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te nespretno ali hiperkinetsk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ža ošteće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otonija do 6 mese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onični i horeoatetozni pokre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inuirana spastičnost+ diskinez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na zaostalo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leps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štano zglobne deform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vida i sluh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ij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i (rubela majk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kterije (sifili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ziti (toksoplazmoz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natalna asfiks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ođajna trauma mozg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ugotrajni porođaj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arlični položaj plo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imena forcepsa ili vaku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ška žutica (Rh inkompatibilij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skularne lez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efalitis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ingitis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tična oduzeto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ntalna defektnost (oligofrenij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leps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voljni pokret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aksij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asifikacij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tična dipleg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tična kvadripleg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inetična cerebralna parali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iplegična cerebralna parali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aksična cerebralna parali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egia spastica infantilis – Morbus Litt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i spastični (aduktori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azast 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ipare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otrofija ekstremi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stremiteti su krać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poren psihomotorni razvoj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hodaju kasn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ovore kasn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cijalna dijagno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 progres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je se popravl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apij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tomats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ilna ishra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ikalna terap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kacioni program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rektivne oper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g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ske bolesti nervnog siste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ne anomalije 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nog sistem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aniostenoz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epravilan oli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ephalia (nasledn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cephalia (makrencephalia sa strukturnim anomalijam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cephalu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kupljanje likvora u likvornim prostori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terano lučen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ežano otican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kusija- zvuk naprslog lon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brekle vene na čel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gled zalazećeg sun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no dobra inteligenc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cephal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genitaln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čen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unikativn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komunikativn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apija: medikamentozna i hirurš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chishisi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 spajanja dorzalnih srednjih struktura primitivne nervne cev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jenja srednje lin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andy Walker (nedostatak srednjeg cererebelum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pina bifi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eningoce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eningomijeloce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arijeva malformacij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uštanje dela cerebeluma u kičmeni ka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uštanje produžene moždine sa IV komorom u kičmeni ka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tvoren foramen occipitale magn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drocefal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arijeva malformacij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adolescentnom dob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jagnoza – M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g – 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apija - hirurš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ke bolesti - etiolog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kroorganizm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skularni poremećaj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plaz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ksikaci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ski poremećaj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ođeni biohemijski poremećaj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iopatske boles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za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že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instve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ški pojmov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eza/parali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stez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estez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aks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orefleksija/arefleks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tič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az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7:02:06Z</dcterms:created>
  <dc:creator>User</dc:creator>
  <dc:description/>
  <dc:language>en-US</dc:language>
  <cp:lastModifiedBy>Dejan Aleksic</cp:lastModifiedBy>
  <dcterms:modified xsi:type="dcterms:W3CDTF">2021-09-22T06:04:47Z</dcterms:modified>
  <cp:revision>61</cp:revision>
  <dc:subject/>
  <dc:title>Opšti pojmovi  o građi i  funkcionisanju nervnog sistema</dc:title>
</cp:coreProperties>
</file>